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232-9928-4F11-BC4C-694E4CDE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to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ycle as much 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cont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&amp; school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stic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to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perly dispose of toxic and hazardous mate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usehold insectic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ven clea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rniture clea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il-based pa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batteries &amp; 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newable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that replenish themselve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/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renewabl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nrenewable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that do not replenish themselve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such as oil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Pol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isherman walks where Bikeman Island once rose out of the South Pacific oce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is this an effect of global warming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er temperatures are melting the icecaps causing sea level to rise. (A number of South Pacific islands are seriously threatened by rising sea levels due to global warming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website on the Bikeman Island phenomenon if intere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v.oneworld.net/tapestry?link=17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: Earth Crash Earth Spirit http://eces.org/gallery/airgfx/air36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65B-5E93-4D78-A8DD-FCFEFF82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4A7-440C-41C6-805B-FABDDD1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29C-24EF-4166-A0CE-C782BDC8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DA2-3B54-4968-A05F-BC514D45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B72-0D0B-48D2-8D5E-9D940AD6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096-DCC1-4205-8480-28E7A27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B28-EC5F-4250-A748-DE24253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637-0E24-48F9-B4B3-66371F2F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261-A1ED-4EA1-A941-BBBF253B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E04-A97B-4D64-AEAC-5215502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561-8851-4356-9E96-70E04EB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869-81DD-4F71-BAE8-1503A9A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74C-897F-4AF3-8C96-6431BFBB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Times New Roman"/>
              </a:rPr>
              <a:t>Ecological Proble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zon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Ozone is harmful in the lower atmosphere; it creates sm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aused primarily by automobile exhau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High levels of ozone damages the health of humans and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uman Population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6 billion people worldw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Highest population rates occur in countries that have the least resource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38% of the world population is located in India &amp; Chi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Africa has the world's highest rate of population growt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United States, Western Europe, and Japan have the lowest population growth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ternative Energy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33% of the world’s population uses 85% of the world’s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Optimistically, there is enough “cheaply obtained” oil to last 4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Fossil fuels have many detrimental effects to the environment (see ozone, global warming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ternative Energy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olar Ener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Wind Power (windmi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Geothermal Energy (geysers &amp; hot spr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Water Power (need to build d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3533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Recycle as much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luminum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Glass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Office &amp; school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Many plast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Click To Download"/>
          <p:cNvPicPr/>
          <p:nvPr/>
        </p:nvPicPr>
        <p:blipFill>
          <a:blip r:embed="rId1"/>
          <a:stretch/>
        </p:blipFill>
        <p:spPr>
          <a:xfrm>
            <a:off x="5654520" y="275904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Properly dispose of toxic and hazardous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Household insecti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Oven clea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Furniture clea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Oil-based 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Motor batteries &amp;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76800" y="3587760"/>
            <a:ext cx="2465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8858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after the last tree has been cut down,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after the last river has been poisoned,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after the last fish has been caught,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then will you realize that money cannot be eaten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5029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We Do Not Inherit The Earth From Our Ancestors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We Borrow It From Our Childr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8636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Renewable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000" y="1157040"/>
            <a:ext cx="90295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Renewable Resources: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Resources that replenish themselves natu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3440" y="2306520"/>
            <a:ext cx="34927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Trees/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8120" y="2224080"/>
            <a:ext cx="43322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8785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Nonrenewable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840" y="1173240"/>
            <a:ext cx="8710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Nonrenewable Resources: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Resources that do not replenish themselves naturally or that take such a long time that they are considered f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9840" y="3347640"/>
            <a:ext cx="4599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Top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Fossil fuels such as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50040" y="2732040"/>
            <a:ext cx="357336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aused by sulfur dioxide released from smokestacks of industries and nitrogen oxides from automobile exha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Damage to aquatic &amp; terrestrial life and buildings &amp; statues made of lim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Warming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(Greenhouse Effec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Greenhouse Gases” trap the energy from the sun and the earth retains the heat somewhat like the glass of a green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Caused mainly by excess CO</a:t>
            </a:r>
            <a:r>
              <a:rPr b="0" lang="en-US" sz="28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from the burning of fossil fuels (in homes &amp; businesses) and automobile exha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arth’s temperature has risen about 1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F in the past century; estimated to increase 1.5-6.0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°F in the next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Warming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(Greenhouse Effec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Effect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odd” weather patterns &amp; “extreme” weather has become more com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melting of glaciers and ice sheets will raise the oceans levels (remember that most of the world’s population lives near 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Times New Roman"/>
              </a:rPr>
              <a:t>Global Warm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0760" y="1241280"/>
            <a:ext cx="8534160" cy="25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 fisherman walks where Bikeman Island once rose out of the South Pacific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How is this an effect of global warm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49640" y="3533760"/>
            <a:ext cx="472608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Ozone (O</a:t>
            </a:r>
            <a:r>
              <a:rPr b="0" lang="en-US" sz="2800" spc="-1" strike="noStrike" baseline="-25000">
                <a:solidFill>
                  <a:srgbClr val="9966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) is beneficial in the upper atmosphere; it shields the earth's surface from UV light from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Depleted ozone layer is leading to health problems in humans &amp; the destruction of the aquatic food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Depletion is caused primarily by CFCs, a gas that escapes from aerosol cans, refrigerators, and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2:32:57Z</dcterms:created>
  <dc:creator>Plano ISD</dc:creator>
  <dc:description/>
  <dc:language>en-US</dc:language>
  <cp:lastModifiedBy>Plano ISD</cp:lastModifiedBy>
  <dcterms:modified xsi:type="dcterms:W3CDTF">2004-09-01T13:27:13Z</dcterms:modified>
  <cp:revision>17</cp:revision>
  <dc:subject/>
  <dc:title>Ecological Problems</dc:title>
</cp:coreProperties>
</file>